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BD3-5036-45EE-89BF-561A3C4A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328-0188-4DEC-956D-86889F79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9BF-7E97-4F12-A799-26C7297E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6A9-4249-4F1D-B276-793DE408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C24-4AFD-46C1-AC24-5FB0462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3AC-F656-4A89-82D7-6CF57E4C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B70-1D1F-4D0F-85D4-4281EBB9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64E-3AAA-408A-9F54-5483093E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6FA-0ADE-45C1-9F01-37B1C093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4C6-02D4-440A-AB55-B2ADFC1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150-2AE7-41D6-A569-DB856DB6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751-E1E0-4999-9E29-E589B143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6E31-8349-4E9A-8128-83932B9739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00000"/>
                </a:solidFill>
                <a:latin typeface="Calibri"/>
              </a:rPr>
              <a:t>Les animaux de la ferme (B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3" descr=""/>
          <p:cNvPicPr/>
          <p:nvPr/>
        </p:nvPicPr>
        <p:blipFill>
          <a:blip r:embed="rId2"/>
          <a:srcRect l="0" t="0" r="-504" b="0"/>
          <a:stretch/>
        </p:blipFill>
        <p:spPr>
          <a:xfrm>
            <a:off x="490680" y="1916280"/>
            <a:ext cx="8474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An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rcRect l="0" t="0" r="16391" b="10171"/>
          <a:stretch/>
        </p:blipFill>
        <p:spPr>
          <a:xfrm>
            <a:off x="617400" y="763560"/>
            <a:ext cx="78422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iens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rcRect l="11355" t="-425" r="11732" b="6206"/>
          <a:stretch/>
        </p:blipFill>
        <p:spPr>
          <a:xfrm>
            <a:off x="1116000" y="820800"/>
            <a:ext cx="69850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evaux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"/>
          <p:cNvPicPr/>
          <p:nvPr/>
        </p:nvPicPr>
        <p:blipFill>
          <a:blip r:embed="rId1"/>
          <a:srcRect l="2292" t="4672" r="19034" b="6393"/>
          <a:stretch/>
        </p:blipFill>
        <p:spPr>
          <a:xfrm>
            <a:off x="539640" y="682560"/>
            <a:ext cx="80391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Lapin 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rcRect l="2040" t="2031" r="20922" b="8282"/>
          <a:stretch/>
        </p:blipFill>
        <p:spPr>
          <a:xfrm>
            <a:off x="531720" y="658800"/>
            <a:ext cx="72802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anard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rcRect l="10725" t="-235" r="9595" b="9794"/>
          <a:stretch/>
        </p:blipFill>
        <p:spPr>
          <a:xfrm>
            <a:off x="684360" y="765000"/>
            <a:ext cx="77212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Chèvr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rcRect l="8208" t="1275" r="16391" b="5072"/>
          <a:stretch/>
        </p:blipFill>
        <p:spPr>
          <a:xfrm>
            <a:off x="826920" y="625320"/>
            <a:ext cx="741708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s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"/>
          <p:cNvPicPr/>
          <p:nvPr/>
        </p:nvPicPr>
        <p:blipFill>
          <a:blip r:embed="rId1"/>
          <a:srcRect l="12363" t="7882" r="21175" b="9981"/>
          <a:stretch/>
        </p:blipFill>
        <p:spPr>
          <a:xfrm>
            <a:off x="952560" y="839880"/>
            <a:ext cx="70754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Poule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"/>
          <p:cNvPicPr/>
          <p:nvPr/>
        </p:nvPicPr>
        <p:blipFill>
          <a:blip r:embed="rId1"/>
          <a:srcRect l="14250" t="6185" r="15006" b="12246"/>
          <a:stretch/>
        </p:blipFill>
        <p:spPr>
          <a:xfrm>
            <a:off x="763560" y="836640"/>
            <a:ext cx="75502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q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rcRect l="17302" t="7601" r="9059" b="6488"/>
          <a:stretch/>
        </p:blipFill>
        <p:spPr>
          <a:xfrm>
            <a:off x="900000" y="765000"/>
            <a:ext cx="761076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Vache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rcRect l="12741" t="7127" r="16139" b="7149"/>
          <a:stretch/>
        </p:blipFill>
        <p:spPr>
          <a:xfrm>
            <a:off x="835200" y="836640"/>
            <a:ext cx="73371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at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6790" t="942" r="18008" b="14507"/>
          <a:stretch/>
        </p:blipFill>
        <p:spPr>
          <a:xfrm>
            <a:off x="698400" y="800280"/>
            <a:ext cx="75456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oq - Ane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rcRect l="7075" t="9205" r="14502" b="6393"/>
          <a:stretch/>
        </p:blipFill>
        <p:spPr>
          <a:xfrm>
            <a:off x="755640" y="907920"/>
            <a:ext cx="76280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Dindon 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"/>
          <p:cNvPicPr/>
          <p:nvPr/>
        </p:nvPicPr>
        <p:blipFill>
          <a:blip r:embed="rId1"/>
          <a:srcRect l="15257" t="9015" r="23441" b="15080"/>
          <a:stretch/>
        </p:blipFill>
        <p:spPr>
          <a:xfrm>
            <a:off x="988920" y="765000"/>
            <a:ext cx="71834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Chien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rcRect l="11104" t="3351" r="16013" b="7904"/>
          <a:stretch/>
        </p:blipFill>
        <p:spPr>
          <a:xfrm>
            <a:off x="900000" y="792000"/>
            <a:ext cx="741708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1:41:54Z</dcterms:modified>
  <cp:revision>10</cp:revision>
  <dc:subject/>
  <dc:title>PowerPoint Presentation</dc:title>
</cp:coreProperties>
</file>